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worth2.wav" ContentType="audio/x-wav"/>
  <Override PartName="/ppt/media/wind.wav" ContentType="audio/x-wav"/>
  <Override PartName="/ppt/media/track3a.wav" ContentType="audio/x-wav"/>
  <Override PartName="/ppt/media/image14.jpeg" ContentType="image/jpeg"/>
  <Override PartName="/ppt/media/image6.jpeg" ContentType="image/jpeg"/>
  <Override PartName="/ppt/media/image2.png" ContentType="image/png"/>
  <Override PartName="/ppt/media/image25.jpeg" ContentType="image/jpeg"/>
  <Override PartName="/ppt/media/image4.jpeg" ContentType="image/jpeg"/>
  <Override PartName="/ppt/media/blkmagic1.wav" ContentType="audio/x-wav"/>
  <Override PartName="/ppt/media/image5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24.jpeg" ContentType="image/jpeg"/>
  <Override PartName="/ppt/media/track1_cut.wav" ContentType="audio/x-wav"/>
  <Override PartName="/ppt/media/image9.jpeg" ContentType="image/jpeg"/>
  <Override PartName="/ppt/media/DANCIN.WAV" ContentType="audio/x-wav"/>
  <Override PartName="/ppt/media/image8.jpeg" ContentType="image/jpeg"/>
  <Override PartName="/ppt/media/image10.jpeg" ContentType="image/jpeg"/>
  <Override PartName="/ppt/media/image18.jpeg" ContentType="image/jpeg"/>
  <Override PartName="/ppt/media/WILDTHNG.WAV" ContentType="audio/x-wav"/>
  <Override PartName="/ppt/media/image3.jpeg" ContentType="image/jpeg"/>
  <Override PartName="/ppt/media/track2aa.wav" ContentType="audio/x-wav"/>
  <Override PartName="/ppt/media/image11.jpeg" ContentType="image/jpeg"/>
  <Override PartName="/ppt/media/Peoplect.wav" ContentType="audio/x-wav"/>
  <Override PartName="/ppt/media/image12.jpeg" ContentType="image/jpeg"/>
  <Override PartName="/ppt/media/respect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DAF-C301-4140-A43D-E51E2F62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080-44DE-422B-BDA4-7B0B070F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0DE-7F15-4358-B057-71702DB6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7F1-751B-4C7F-A839-AE82C6CD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817-7AE6-4282-B5FE-E9252D6B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A06-B5CB-48EB-9AD6-9CF3D97E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4BD-6972-49F7-94BB-A7CD9396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A3A-D7E2-4F93-90B0-D6791EA6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C6D-3779-46B2-9D54-FAC3D77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36B0-55DB-4EDE-BA93-1433174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256F-B147-432D-9935-63412B8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BAC2-13F1-421C-894D-D66E636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A295-E436-4C25-8824-B1339F4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0AA-F3D1-4D48-AA1E-4DB83B7E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F6F6-CCBA-43CE-A259-4B2BEBC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62B-91E7-4CC1-978A-41002D7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D33E-46E7-4903-9FEC-18F8847F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26FB-75F3-4A50-8345-E47F0A00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F58B-0FF8-4E6F-B037-D318052B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EF5B-4B28-4726-9974-544DD2F4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F5CD4-8639-459B-AB83-D0F796A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0876-ECF3-4BDC-8410-AD5A9887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749C-45FB-476B-A0A2-1A75D27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3571-F09B-4CBB-8992-3643CBD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644-809B-4111-9CD9-9C9748F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E385-A08B-4D8B-80A2-762767C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6828-A9B4-4788-9F0A-6496B7A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010C-E1EC-4C42-B670-8927C815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E81A-ED17-4B91-A5A9-9F0140E8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F625-B6A5-44AC-B9E1-309EFAB3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E611-F128-493A-A78F-0B32CB4B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EA62-0D48-4F22-81C6-99181E9F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9655-7B06-4E02-8124-1BE6B69A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10A8-CC84-46B5-BF4F-99EFB90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7399-2DE2-410C-B86C-2516E8B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1C2-7A49-4BF1-AF03-54305A2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8CA2-5BA2-4C4F-AC5B-23D13A2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E138-7CAB-4F0D-AFA0-F5A02709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5D70-D547-44B9-A6EE-25DA9A81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0B4E-58A6-4ED0-A260-AF621AE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F5D3-8BBE-4180-ACDF-0E40F00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E0506-AF4A-4994-9F57-FD61CC6B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B791-B77D-4920-8061-01E56791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65A8-D223-45D7-B898-7D0E8135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52DB-331B-4720-A87A-7291D202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93E9-F4B6-4A4B-849D-80612C43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B70-C0B4-4516-87EC-A562767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00D6-B083-4134-94ED-FC3FAD6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B742-573E-4DEA-9B93-96BDB399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9EF4-3F54-4A9B-9D75-206F0F49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64D1-CAF2-4FC8-8DA0-11F7CD4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DF85-E93A-4A5B-9F90-F83B0AE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C308-D561-4B9C-A327-0E48596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9FDC-5E38-49D7-B34B-F43D638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1CD9-4E3B-4D88-9E79-582CD6B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D497C-CB53-4C30-B968-7FD3681B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A887-3D5C-4DE0-9275-ADD7765B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E9C-2DD6-488A-B17D-4C31F70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D0E0-BAB9-45BE-B64C-D5D6C029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8DAB-8823-46C3-9D32-304EE769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9A04-5289-4506-934B-46FD0782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432F-E6C7-4F52-B8CD-B623E65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0754-9BB4-4750-AE23-1D6FAB8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3E76C-8649-4300-A060-695E1DEB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2D85-D3B7-47E7-A951-8FA157D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ACFB-F1E6-444A-AA37-06A2250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A4F89-E398-468F-B08C-7253415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D9B6-3C25-4407-BF16-542CB1B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5E6-D886-4881-95D7-FDC1537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C781-B8BD-43FF-B25F-5F7450EB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D7AD-CD03-4829-A664-A9F35DF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386D-0098-42CF-9965-2062C737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1DA7-2352-49D3-BB7F-605137D0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CBB8-1002-4AB4-AA85-9FCBD801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AFA31-BBCC-4DCF-BB1A-BBC4C69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1518-258C-4594-90B3-3D47C54A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F1B2A-C90C-483B-906C-8668F108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B077-41A6-4419-A484-3C0EA5A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30C4-7E06-4418-8EDF-0F9570A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A54-0780-4923-80A7-E20B846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28EE8-AB51-42CE-BD3F-49534BC6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CE44-4A25-4945-B650-84DEAD4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DABD-82EC-49A3-80B3-2252817F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5D49-F84C-4FCA-9BED-8099E332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3101-6CAD-4C2D-A353-A587058C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6CF-140F-4C6D-A301-56012F5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F8C-33DD-4832-AF57-5783893A6EE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4AA-2B60-4FD0-A099-E2F03D145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CEC8-D4E4-41C6-A265-6DDF7B5987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F1DB-1401-45D3-B5EE-ACE8ED2DD2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C5B-6DD3-47DD-838F-89576CE9F59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664A-17CD-47A0-9B17-D35A190241A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1024-387C-4932-9F4A-9A3B1926DD0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rack2aa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rack3a.wav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9.jpeg"/><Relationship Id="rId6" Type="http://schemas.openxmlformats.org/officeDocument/2006/relationships/image" Target="../media/image17.jpeg"/><Relationship Id="rId7" Type="http://schemas.openxmlformats.org/officeDocument/2006/relationships/image" Target="../media/image20.jpeg"/><Relationship Id="rId8" Type="http://schemas.openxmlformats.org/officeDocument/2006/relationships/image" Target="../media/image17.jpeg"/><Relationship Id="rId9" Type="http://schemas.openxmlformats.org/officeDocument/2006/relationships/image" Target="../media/image21.jpeg"/><Relationship Id="rId10" Type="http://schemas.openxmlformats.org/officeDocument/2006/relationships/image" Target="../media/image17.jpeg"/><Relationship Id="rId11" Type="http://schemas.openxmlformats.org/officeDocument/2006/relationships/image" Target="../media/image22.jpeg"/><Relationship Id="rId12" Type="http://schemas.openxmlformats.org/officeDocument/2006/relationships/image" Target="../media/image17.jpeg"/><Relationship Id="rId13" Type="http://schemas.openxmlformats.org/officeDocument/2006/relationships/image" Target="../media/image23.png"/><Relationship Id="rId14" Type="http://schemas.openxmlformats.org/officeDocument/2006/relationships/image" Target="../media/image17.jpeg"/><Relationship Id="rId15" Type="http://schemas.openxmlformats.org/officeDocument/2006/relationships/image" Target="../media/image24.jpeg"/><Relationship Id="rId16" Type="http://schemas.openxmlformats.org/officeDocument/2006/relationships/image" Target="../media/image17.jpeg"/><Relationship Id="rId17" Type="http://schemas.openxmlformats.org/officeDocument/2006/relationships/image" Target="../media/image25.jpeg"/><Relationship Id="rId18" Type="http://schemas.openxmlformats.org/officeDocument/2006/relationships/image" Target="../media/image17.jpeg"/><Relationship Id="rId19" Type="http://schemas.openxmlformats.org/officeDocument/2006/relationships/image" Target="../media/image3.jpeg"/><Relationship Id="rId20" Type="http://schemas.openxmlformats.org/officeDocument/2006/relationships/image" Target="../media/image2.png"/><Relationship Id="rId21" Type="http://schemas.openxmlformats.org/officeDocument/2006/relationships/hyperlink" Target="http://www.shawsheen.tec.ma.us/crucible/mpeg2.htm" TargetMode="External"/><Relationship Id="rId22" Type="http://schemas.openxmlformats.org/officeDocument/2006/relationships/audio" Target="../media/worth2.wav"/><Relationship Id="rId2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track1_cut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rack3a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blkmagic1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audio" Target="../media/Peoplect.wav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WILDTHNG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ANCIN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espect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-1328040" y="304920"/>
            <a:ext cx="121287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n 1953, legendary writer Arthur M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epicted a story based on actual fac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facts which remain horrifying even to t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day, despite being based on events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ook place over 300 years ago.The story i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errifying depiction of how the accusation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a group of children stirred up such fear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ir small community that it le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persecution and hangings. But, what ma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he story so touching even till this day i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it applies to all “witch”hunts; yes, wi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hunts taking place every day</a:t>
            </a:r>
            <a:r>
              <a:rPr b="0" lang="en-US" sz="3600" spc="-1" strike="noStrike">
                <a:solidFill>
                  <a:srgbClr val="ff0000"/>
                </a:solidFill>
                <a:latin typeface="Bell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81960" y="121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2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-1747440" y="609480"/>
            <a:ext cx="1261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But, what really makes The Crucible so spe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 to this day, is that the story applies 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events that we witness right before our own 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Yes, we have allowed ‘witch hunts’ to conti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take place, proving that we have yet to correc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ll MT"/>
              </a:rPr>
              <a:t>mistakes that were made over 300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2750040" y="228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In our da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" descr="C:\crucible\new\hitler.jpg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48006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crucible\today\black2.jpg"/>
          <p:cNvPicPr/>
          <p:nvPr/>
        </p:nvPicPr>
        <p:blipFill>
          <a:blip r:embed="rId2"/>
          <a:stretch/>
        </p:blipFill>
        <p:spPr>
          <a:xfrm>
            <a:off x="1447920" y="914400"/>
            <a:ext cx="6019560" cy="4952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crucible\new\rosa.jpg"/>
          <p:cNvPicPr/>
          <p:nvPr/>
        </p:nvPicPr>
        <p:blipFill>
          <a:blip r:embed="rId3"/>
          <a:stretch/>
        </p:blipFill>
        <p:spPr>
          <a:xfrm>
            <a:off x="1295280" y="923760"/>
            <a:ext cx="6324840" cy="5162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C:\crucible\new\black2.jpg"/>
          <p:cNvPicPr/>
          <p:nvPr/>
        </p:nvPicPr>
        <p:blipFill>
          <a:blip r:embed="rId4"/>
          <a:stretch/>
        </p:blipFill>
        <p:spPr>
          <a:xfrm>
            <a:off x="1143000" y="838080"/>
            <a:ext cx="6781680" cy="5257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C:\crucible\new\castro.jpg"/>
          <p:cNvPicPr/>
          <p:nvPr/>
        </p:nvPicPr>
        <p:blipFill>
          <a:blip r:embed="rId5"/>
          <a:stretch/>
        </p:blipFill>
        <p:spPr>
          <a:xfrm>
            <a:off x="1219320" y="990720"/>
            <a:ext cx="6476760" cy="510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C:\crucible\new\black2.jpg"/>
          <p:cNvPicPr/>
          <p:nvPr/>
        </p:nvPicPr>
        <p:blipFill>
          <a:blip r:embed="rId6"/>
          <a:stretch/>
        </p:blipFill>
        <p:spPr>
          <a:xfrm>
            <a:off x="990720" y="838080"/>
            <a:ext cx="6933960" cy="5410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:\crucible\new\king.jpg"/>
          <p:cNvPicPr/>
          <p:nvPr/>
        </p:nvPicPr>
        <p:blipFill>
          <a:blip r:embed="rId7"/>
          <a:stretch/>
        </p:blipFill>
        <p:spPr>
          <a:xfrm>
            <a:off x="1219320" y="1274760"/>
            <a:ext cx="6705360" cy="4308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C:\crucible\new\black2.jpg"/>
          <p:cNvPicPr/>
          <p:nvPr/>
        </p:nvPicPr>
        <p:blipFill>
          <a:blip r:embed="rId8"/>
          <a:stretch/>
        </p:blipFill>
        <p:spPr>
          <a:xfrm>
            <a:off x="1066680" y="1143000"/>
            <a:ext cx="6934320" cy="5349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crucible\new\tiannemen.jpg"/>
          <p:cNvPicPr/>
          <p:nvPr/>
        </p:nvPicPr>
        <p:blipFill>
          <a:blip r:embed="rId9"/>
          <a:stretch/>
        </p:blipFill>
        <p:spPr>
          <a:xfrm>
            <a:off x="1295280" y="1127160"/>
            <a:ext cx="6629400" cy="4657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rucible\new\black2.jpg"/>
          <p:cNvPicPr/>
          <p:nvPr/>
        </p:nvPicPr>
        <p:blipFill>
          <a:blip r:embed="rId10"/>
          <a:stretch/>
        </p:blipFill>
        <p:spPr>
          <a:xfrm>
            <a:off x="1066680" y="990720"/>
            <a:ext cx="7086600" cy="505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rucible\new\demo.jpg"/>
          <p:cNvPicPr/>
          <p:nvPr/>
        </p:nvPicPr>
        <p:blipFill>
          <a:blip r:embed="rId11"/>
          <a:stretch/>
        </p:blipFill>
        <p:spPr>
          <a:xfrm>
            <a:off x="685800" y="1208160"/>
            <a:ext cx="7696080" cy="4735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rucible\new\black2.jpg"/>
          <p:cNvPicPr/>
          <p:nvPr/>
        </p:nvPicPr>
        <p:blipFill>
          <a:blip r:embed="rId12"/>
          <a:stretch/>
        </p:blipFill>
        <p:spPr>
          <a:xfrm>
            <a:off x="609480" y="106668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rucible\today\exec.gif"/>
          <p:cNvPicPr/>
          <p:nvPr/>
        </p:nvPicPr>
        <p:blipFill>
          <a:blip r:embed="rId13"/>
          <a:stretch/>
        </p:blipFill>
        <p:spPr>
          <a:xfrm>
            <a:off x="762120" y="1141560"/>
            <a:ext cx="7772400" cy="4667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C:\crucible\today\black2.jpg"/>
          <p:cNvPicPr/>
          <p:nvPr/>
        </p:nvPicPr>
        <p:blipFill>
          <a:blip r:embed="rId14"/>
          <a:stretch/>
        </p:blipFill>
        <p:spPr>
          <a:xfrm>
            <a:off x="685800" y="990720"/>
            <a:ext cx="8001000" cy="5006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C:\crucible\new\iamaman.jpg"/>
          <p:cNvPicPr/>
          <p:nvPr/>
        </p:nvPicPr>
        <p:blipFill>
          <a:blip r:embed="rId15"/>
          <a:stretch/>
        </p:blipFill>
        <p:spPr>
          <a:xfrm>
            <a:off x="1143000" y="982800"/>
            <a:ext cx="6858000" cy="4892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C:\crucible\new\black2.jpg"/>
          <p:cNvPicPr/>
          <p:nvPr/>
        </p:nvPicPr>
        <p:blipFill>
          <a:blip r:embed="rId16"/>
          <a:stretch/>
        </p:blipFill>
        <p:spPr>
          <a:xfrm>
            <a:off x="1066680" y="914400"/>
            <a:ext cx="7086600" cy="5334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C:\crucible\today\roland3.jpg"/>
          <p:cNvPicPr/>
          <p:nvPr/>
        </p:nvPicPr>
        <p:blipFill>
          <a:blip r:embed="rId17"/>
          <a:stretch/>
        </p:blipFill>
        <p:spPr>
          <a:xfrm>
            <a:off x="1295280" y="915840"/>
            <a:ext cx="6629400" cy="5094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C:\crucible\today\black2.jpg"/>
          <p:cNvPicPr/>
          <p:nvPr/>
        </p:nvPicPr>
        <p:blipFill>
          <a:blip r:embed="rId18"/>
          <a:stretch/>
        </p:blipFill>
        <p:spPr>
          <a:xfrm>
            <a:off x="1219320" y="838080"/>
            <a:ext cx="6858000" cy="5181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C:\crucible\today\black.jpg"/>
          <p:cNvPicPr/>
          <p:nvPr/>
        </p:nvPicPr>
        <p:blipFill>
          <a:blip r:embed="rId19"/>
          <a:stretch/>
        </p:blipFill>
        <p:spPr>
          <a:xfrm>
            <a:off x="2971800" y="304920"/>
            <a:ext cx="2743200" cy="9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2" descr="C:\crucible\logo.gif"/>
          <p:cNvPicPr/>
          <p:nvPr/>
        </p:nvPicPr>
        <p:blipFill>
          <a:blip r:embed="rId20"/>
          <a:stretch/>
        </p:blipFill>
        <p:spPr>
          <a:xfrm>
            <a:off x="685800" y="1755720"/>
            <a:ext cx="7772400" cy="3197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3"/>
          <p:cNvSpPr/>
          <p:nvPr/>
        </p:nvSpPr>
        <p:spPr>
          <a:xfrm>
            <a:off x="3653640" y="5638680"/>
            <a:ext cx="1887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Bell MT"/>
                <a:hlinkClick r:id="rId21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ort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3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649520" y="3049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Ladies and Gent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974960" y="1066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C:\crucible\logo.gif"/>
          <p:cNvPicPr/>
          <p:nvPr/>
        </p:nvPicPr>
        <p:blipFill>
          <a:blip r:embed="rId1"/>
          <a:stretch/>
        </p:blipFill>
        <p:spPr>
          <a:xfrm>
            <a:off x="914400" y="2286000"/>
            <a:ext cx="7086600" cy="25938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3116160" y="1066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o the story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8" descr="C:\crucible\today\black.jpg"/>
          <p:cNvPicPr/>
          <p:nvPr/>
        </p:nvPicPr>
        <p:blipFill>
          <a:blip r:embed="rId2"/>
          <a:stretch/>
        </p:blipFill>
        <p:spPr>
          <a:xfrm>
            <a:off x="2057400" y="0"/>
            <a:ext cx="2741760" cy="91440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rack1_cu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304920"/>
            <a:ext cx="134874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It is the spring of 169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e small town of Salem, MA had been establishe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mere forty years earlier, and had yet to make  its mark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e rest of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However, while not all were immediately aware, 16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would be a year of ‘revolution’ 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No longer was everyone willing to adhere to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trict lifestyle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that had been set down by their fore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     While the town of Salem may have appeared to b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erene and</a:t>
            </a:r>
            <a:r>
              <a:rPr b="1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enjoyable place to live, it was about to experi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an event that would change the villagers’ lives for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          Little did they know, though, that their stor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still have a tremendous effect on us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ll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rack3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crucible\proctor2.jpg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54118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286956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ell MT"/>
              </a:rPr>
              <a:t>The one, the on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517200" y="685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ell MT"/>
              </a:rPr>
              <a:t>John Pr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8" descr="C:\crucible\winona.jpg"/>
          <p:cNvPicPr/>
          <p:nvPr/>
        </p:nvPicPr>
        <p:blipFill>
          <a:blip r:embed="rId2"/>
          <a:stretch/>
        </p:blipFill>
        <p:spPr>
          <a:xfrm>
            <a:off x="380880" y="28195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C:\crucible\ELIZABETH2.JPG"/>
          <p:cNvPicPr/>
          <p:nvPr/>
        </p:nvPicPr>
        <p:blipFill>
          <a:blip r:embed="rId3"/>
          <a:stretch/>
        </p:blipFill>
        <p:spPr>
          <a:xfrm>
            <a:off x="7362720" y="2133720"/>
            <a:ext cx="17812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lkmagic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C:\crucible\blank.jpg"/>
          <p:cNvPicPr/>
          <p:nvPr/>
        </p:nvPicPr>
        <p:blipFill>
          <a:blip r:embed="rId1"/>
          <a:stretch/>
        </p:blipFill>
        <p:spPr>
          <a:xfrm>
            <a:off x="773280" y="920880"/>
            <a:ext cx="7596000" cy="5016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crucible\judge1.jpg"/>
          <p:cNvPicPr/>
          <p:nvPr/>
        </p:nvPicPr>
        <p:blipFill>
          <a:blip r:embed="rId2"/>
          <a:stretch/>
        </p:blipFill>
        <p:spPr>
          <a:xfrm>
            <a:off x="1295280" y="1981080"/>
            <a:ext cx="2298960" cy="398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C:\crucible\judge3.jpg"/>
          <p:cNvPicPr/>
          <p:nvPr/>
        </p:nvPicPr>
        <p:blipFill>
          <a:blip r:embed="rId3"/>
          <a:stretch/>
        </p:blipFill>
        <p:spPr>
          <a:xfrm>
            <a:off x="5867280" y="1676520"/>
            <a:ext cx="2082960" cy="4317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crucible\judge2.jpg"/>
          <p:cNvPicPr/>
          <p:nvPr/>
        </p:nvPicPr>
        <p:blipFill>
          <a:blip r:embed="rId4"/>
          <a:stretch/>
        </p:blipFill>
        <p:spPr>
          <a:xfrm>
            <a:off x="3352680" y="1066680"/>
            <a:ext cx="2565360" cy="4927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1988640" y="2286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he Crucibl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C:\crucible\horror.jpg"/>
          <p:cNvPicPr/>
          <p:nvPr/>
        </p:nvPicPr>
        <p:blipFill>
          <a:blip r:embed="rId5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"/>
          <p:cNvSpPr/>
          <p:nvPr/>
        </p:nvSpPr>
        <p:spPr>
          <a:xfrm>
            <a:off x="2327040" y="6476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What did they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12" descr="C:\crucible\horror.jpg"/>
          <p:cNvPicPr/>
          <p:nvPr/>
        </p:nvPicPr>
        <p:blipFill>
          <a:blip r:embed="rId6"/>
          <a:stretch/>
        </p:blipFill>
        <p:spPr>
          <a:xfrm>
            <a:off x="914400" y="1066680"/>
            <a:ext cx="6986520" cy="46483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:\crucible\abagail1.jpg"/>
          <p:cNvPicPr/>
          <p:nvPr/>
        </p:nvPicPr>
        <p:blipFill>
          <a:blip r:embed="rId1"/>
          <a:stretch/>
        </p:blipFill>
        <p:spPr>
          <a:xfrm>
            <a:off x="3962520" y="533520"/>
            <a:ext cx="4749840" cy="5930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7896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Abig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:\crucible\abagail2.jpg"/>
          <p:cNvPicPr/>
          <p:nvPr/>
        </p:nvPicPr>
        <p:blipFill>
          <a:blip r:embed="rId2"/>
          <a:stretch/>
        </p:blipFill>
        <p:spPr>
          <a:xfrm>
            <a:off x="228600" y="685800"/>
            <a:ext cx="3733920" cy="5791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LDTH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C:\crucible\tituba.jpg"/>
          <p:cNvPicPr/>
          <p:nvPr/>
        </p:nvPicPr>
        <p:blipFill>
          <a:blip r:embed="rId1"/>
          <a:stretch/>
        </p:blipFill>
        <p:spPr>
          <a:xfrm>
            <a:off x="785880" y="906480"/>
            <a:ext cx="7570800" cy="50436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3616200" y="210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Tit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NC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C:\crucible\ELIZABETH2.JPG"/>
          <p:cNvPicPr/>
          <p:nvPr/>
        </p:nvPicPr>
        <p:blipFill>
          <a:blip r:embed="rId1"/>
          <a:stretch/>
        </p:blipFill>
        <p:spPr>
          <a:xfrm>
            <a:off x="2158920" y="990720"/>
            <a:ext cx="4826160" cy="57402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2415240" y="2286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Elizabeth Pro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sp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crucible\proctor3.jpg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043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2175840" y="2286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ell MT"/>
              </a:rPr>
              <a:t>John and Elizabe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6:21:35Z</dcterms:created>
  <dc:creator>Jason Pinto</dc:creator>
  <dc:description/>
  <dc:language>en-US</dc:language>
  <cp:lastModifiedBy>Teacher</cp:lastModifiedBy>
  <dcterms:modified xsi:type="dcterms:W3CDTF">2009-09-29T17:02:58Z</dcterms:modified>
  <cp:revision>145</cp:revision>
  <dc:subject/>
  <dc:title>No Slide Title</dc:title>
</cp:coreProperties>
</file>